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444E-A647-4EBC-BE5F-FAA158D4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11E6-5812-4E42-8248-323AC879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11D0-6605-4B9B-A660-821CE1B0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A112-FFC7-41B7-B550-FA2FA4CE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D6BF-1790-482B-B93A-5BE14FB19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2E05-8DB1-440A-8E52-2A463743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6392-C181-43EB-BF37-80A7777F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0057-14C3-4A90-949C-C87A0722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3540-2F24-4D7A-8AF8-A9B3FF76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A705-2A26-4615-AEC9-258C8936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38DA-41EB-4207-A5C5-F2BBD4A7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47BE-39C0-4BFE-8E29-AD347A51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908A-EB77-4B62-B551-6D705D59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CE95-9FB8-47C6-8271-64120533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0FDF-4DD0-4E30-8475-B858508C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3033C-974C-41A6-B3B1-99D793226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5359-4476-4486-9F56-71B6CE758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6F6C-A848-4454-B176-49273821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BCAD-B984-41EA-92B4-D88227D6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690E-D957-4B6E-B858-9AF0D20B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2FF5-20A7-4454-A64F-54A71E59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C6EC-48AF-4D0B-BE65-AB63AC67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BD66-421B-4837-A6D6-AC733075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E174-775E-4DE5-A4FC-B03D20F7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1A19-AC4E-4DF5-B7EE-3C59F10FD3F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0BE9-F95C-4978-8488-0C5FA22E297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wmf"/><Relationship Id="rId7" Type="http://schemas.openxmlformats.org/officeDocument/2006/relationships/image" Target="../media/image3.png"/><Relationship Id="rId8" Type="http://schemas.openxmlformats.org/officeDocument/2006/relationships/hyperlink" Target="http://www.50states.com/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hyperlink" Target="http://bensguide.gpo.gov/3-5/state/index.html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postcardsfrom.com/t1/980810.html" TargetMode="External"/><Relationship Id="rId3" Type="http://schemas.openxmlformats.org/officeDocument/2006/relationships/image" Target="../media/image9.png"/><Relationship Id="rId4" Type="http://schemas.openxmlformats.org/officeDocument/2006/relationships/hyperlink" Target="http://www.postcardsfrom.com/t1/980810.html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228600" y="380880"/>
            <a:ext cx="792468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5076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outh </a:t>
            </a:r>
            <a:endParaRPr b="0" lang="en-US" sz="1800" spc="1" strike="noStrike">
              <a:ln w="5076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ffffff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akota</a:t>
            </a:r>
            <a:endParaRPr b="0" lang="en-US" sz="1800" spc="1" strike="noStrike">
              <a:ln w="50760">
                <a:solidFill>
                  <a:srgbClr val="ffffff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4" name=""/>
          <p:cNvSpPr/>
          <p:nvPr/>
        </p:nvSpPr>
        <p:spPr>
          <a:xfrm>
            <a:off x="5791320" y="4952880"/>
            <a:ext cx="33526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20/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#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6"/>
          <a:stretch/>
        </p:blipFill>
        <p:spPr>
          <a:xfrm>
            <a:off x="1600200" y="4629240"/>
            <a:ext cx="2282760" cy="222876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3886200" y="5867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Clip Ar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7"/>
          <a:stretch/>
        </p:blipFill>
        <p:spPr>
          <a:xfrm>
            <a:off x="800100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7543800" y="762120"/>
            <a:ext cx="16002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0 States,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Sate Song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 10/7/10, </a:t>
            </a:r>
            <a:r>
              <a:rPr b="0" lang="en-US" sz="1200" spc="-1" strike="noStrike" u="sng">
                <a:solidFill>
                  <a:srgbClr val="a3c145"/>
                </a:solidFill>
                <a:uFillTx/>
                <a:latin typeface="Tahoma"/>
                <a:hlinkClick r:id="rId8"/>
              </a:rPr>
              <a:t>www.50states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22860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ate Name: South Dako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Capital: Pier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pulation: 754, 84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ter the Union: 4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November 2, 188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tto: Under God the People R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ckname: Mount Rushmore State, Coyote St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ower: PasqueFlow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rd: Ring-Necked Pheas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ng: Hail! South Dako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ning Behind Name: Alliance of Frie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6019920" y="3505320"/>
            <a:ext cx="1711080" cy="18795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7696080" y="43434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Clip Ar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7589880" y="0"/>
            <a:ext cx="1554120" cy="16765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7772400" y="19051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Clip Ar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562720" y="914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he Ring-Necked Pheasant is fascinating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715000" y="5410080"/>
            <a:ext cx="3124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he PasqueFlower is beautiful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" dur="5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" dur="5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2" dur="500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" dur="500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2" dur="500"/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7" dur="500"/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3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acts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t took 14 years to build the 6,200 foot tall Mount Rushmor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em: Fairburn Agate, a very unusual stone. Made into pendants, necklaces, and earring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ineral: Rose Quartz, a pink, inexpensive stone that goes with anything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outh Dakota is 77,121 square miles big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2895480" y="4800600"/>
            <a:ext cx="2286000" cy="152388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5227920" y="5638680"/>
            <a:ext cx="64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Clip Ar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9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South Dakota: Map and State Flag"/>
          <p:cNvPicPr/>
          <p:nvPr/>
        </p:nvPicPr>
        <p:blipFill>
          <a:blip r:embed="rId1"/>
          <a:srcRect l="7900" t="0" r="9178" b="60617"/>
          <a:stretch/>
        </p:blipFill>
        <p:spPr>
          <a:xfrm>
            <a:off x="914400" y="609480"/>
            <a:ext cx="3733920" cy="231156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South Dakota: Map and State Flag"/>
          <p:cNvPicPr/>
          <p:nvPr/>
        </p:nvPicPr>
        <p:blipFill>
          <a:blip r:embed="rId2"/>
          <a:srcRect l="0" t="50009" r="0" b="0"/>
          <a:stretch/>
        </p:blipFill>
        <p:spPr>
          <a:xfrm>
            <a:off x="4952880" y="3886200"/>
            <a:ext cx="3962520" cy="2583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228600" y="480060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n’s Guide to U.S. Government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Quick Facts: South Dakot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22 September 2010, </a:t>
            </a:r>
            <a:r>
              <a:rPr b="0" lang="en-US" sz="1800" spc="-1" strike="noStrike" u="sng">
                <a:solidFill>
                  <a:srgbClr val="a3c145"/>
                </a:solidFill>
                <a:uFillTx/>
                <a:latin typeface="Arial"/>
                <a:hlinkClick r:id="rId3"/>
              </a:rPr>
              <a:t>http://bensguide.gpo.gov/3-5/state/index.html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All images Copyright © 1997 - 2000 WriteLine. All Rights Reserved. Bison home on the range"/>
          <p:cNvPicPr/>
          <p:nvPr/>
        </p:nvPicPr>
        <p:blipFill>
          <a:blip r:embed="rId1"/>
          <a:stretch/>
        </p:blipFill>
        <p:spPr>
          <a:xfrm>
            <a:off x="0" y="0"/>
            <a:ext cx="5029200" cy="33526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0" y="3429000"/>
            <a:ext cx="56386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stcards From America,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Black Hills, S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9/23/10, </a:t>
            </a:r>
            <a:r>
              <a:rPr b="0" lang="en-US" sz="1600" spc="-1" strike="noStrike" u="sng">
                <a:solidFill>
                  <a:srgbClr val="a3c145"/>
                </a:solidFill>
                <a:uFillTx/>
                <a:latin typeface="Arial"/>
                <a:hlinkClick r:id="rId2"/>
              </a:rPr>
              <a:t>http://www.postcardsfrom.com/t1/980810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" descr="Copyright © 1998 WriteLine. All Rights Reserved. Spruce tree stamp"/>
          <p:cNvPicPr/>
          <p:nvPr/>
        </p:nvPicPr>
        <p:blipFill>
          <a:blip r:embed="rId3"/>
          <a:stretch/>
        </p:blipFill>
        <p:spPr>
          <a:xfrm>
            <a:off x="5867280" y="3124080"/>
            <a:ext cx="2616480" cy="35816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5105520" y="2057400"/>
            <a:ext cx="40384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stcards From America,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South Dakota State Stamp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9/23/10, </a:t>
            </a:r>
            <a:r>
              <a:rPr b="0" lang="en-US" sz="1600" spc="-1" strike="noStrike" u="sng">
                <a:solidFill>
                  <a:srgbClr val="a3c145"/>
                </a:solidFill>
                <a:uFillTx/>
                <a:latin typeface="Arial"/>
                <a:hlinkClick r:id="rId4"/>
              </a:rPr>
              <a:t>http://www.postcardsfrom.com/t1/980810.htm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05520" y="304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uster State Park is a natural beau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52280" y="57150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Black Hills Spruce Tree is a magnificent evergreen t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21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26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21:41Z</dcterms:created>
  <dc:creator>install</dc:creator>
  <dc:description/>
  <dc:language>en-US</dc:language>
  <cp:lastModifiedBy>install</cp:lastModifiedBy>
  <dcterms:modified xsi:type="dcterms:W3CDTF">2010-10-14T13:19:45Z</dcterms:modified>
  <cp:revision>34</cp:revision>
  <dc:subject/>
  <dc:title>Slide 1</dc:title>
</cp:coreProperties>
</file>